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1E30B-6101-462A-B7EC-CE4D12AEF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2C793-F565-4724-B6C2-2992B2CA2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21A6A-755C-4A25-A051-26F3E34458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76B27A-9071-46DE-A16F-DE340ADC8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9281B-9711-42EA-ACA3-DB7A267B8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31BB4-C5B2-48E9-B9AE-146F390AAA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26586-480F-4F34-B908-C68C4B918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15CB1-2168-4911-BAF4-B4A98D6BF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8D1E3-A9D6-4C12-8231-EC603F7F0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B5AFF-2D8D-4EEC-97F1-100D67DDE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5EDEE-A161-4AE8-BE1D-670EF4B07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20D66-7FDC-4BF4-A709-A66838366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CC73-5193-4813-B044-3FD9C8EE54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592200" y="369720"/>
            <a:ext cx="8975520" cy="2138400"/>
          </a:xfrm>
          <a:prstGeom prst="rect">
            <a:avLst/>
          </a:prstGeom>
          <a:ln w="0">
            <a:noFill/>
          </a:ln>
        </p:spPr>
      </p:pic>
      <p:pic>
        <p:nvPicPr>
          <p:cNvPr id="42" name="" descr=""/>
          <p:cNvPicPr/>
          <p:nvPr/>
        </p:nvPicPr>
        <p:blipFill>
          <a:blip r:embed="rId3"/>
          <a:stretch/>
        </p:blipFill>
        <p:spPr>
          <a:xfrm>
            <a:off x="592200" y="2486160"/>
            <a:ext cx="8975520" cy="198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 descr=""/>
          <p:cNvPicPr/>
          <p:nvPr/>
        </p:nvPicPr>
        <p:blipFill>
          <a:blip r:embed="rId2"/>
          <a:stretch/>
        </p:blipFill>
        <p:spPr>
          <a:xfrm>
            <a:off x="496800" y="285840"/>
            <a:ext cx="9166320" cy="1577880"/>
          </a:xfrm>
          <a:prstGeom prst="rect">
            <a:avLst/>
          </a:prstGeom>
          <a:ln w="0">
            <a:noFill/>
          </a:ln>
        </p:spPr>
      </p:pic>
      <p:sp>
        <p:nvSpPr>
          <p:cNvPr id="67" name=""/>
          <p:cNvSpPr/>
          <p:nvPr/>
        </p:nvSpPr>
        <p:spPr>
          <a:xfrm>
            <a:off x="552600" y="2143080"/>
            <a:ext cx="9055080" cy="9550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he author sees bright and colorful fruits that remind him of his home and saddens him</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496800" y="285840"/>
            <a:ext cx="9166320" cy="1577880"/>
          </a:xfrm>
          <a:prstGeom prst="rect">
            <a:avLst/>
          </a:prstGeom>
          <a:ln w="0">
            <a:noFill/>
          </a:ln>
        </p:spPr>
      </p:pic>
      <p:sp>
        <p:nvSpPr>
          <p:cNvPr id="69" name=""/>
          <p:cNvSpPr/>
          <p:nvPr/>
        </p:nvSpPr>
        <p:spPr>
          <a:xfrm>
            <a:off x="552600" y="2143080"/>
            <a:ext cx="9055080" cy="19098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Rhymes occur throughout the poem</a:t>
            </a:r>
            <a:endParaRPr b="0" lang="en-US" sz="33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Rhyme Scheme – ABAB CDCD EFEF</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496800" y="285840"/>
            <a:ext cx="9166320" cy="1577880"/>
          </a:xfrm>
          <a:prstGeom prst="rect">
            <a:avLst/>
          </a:prstGeom>
          <a:ln w="0">
            <a:noFill/>
          </a:ln>
        </p:spPr>
      </p:pic>
      <p:sp>
        <p:nvSpPr>
          <p:cNvPr id="71" name=""/>
          <p:cNvSpPr/>
          <p:nvPr/>
        </p:nvSpPr>
        <p:spPr>
          <a:xfrm>
            <a:off x="552600" y="2143080"/>
            <a:ext cx="9055080" cy="47739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Having come to New York from Jamaica, Mckay seems to have been strolling through a local market where the sights and smells of the tropical fruits of his homeland take him back to Jamaica. The tangible reality of fruits allows his memory to grow. There he finds the positive beauty of his homeland because of how vivid the memories are he becomes incredibly sad. He knows he’s no longer home.</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496800" y="285840"/>
            <a:ext cx="9166320" cy="1577880"/>
          </a:xfrm>
          <a:prstGeom prst="rect">
            <a:avLst/>
          </a:prstGeom>
          <a:ln w="0">
            <a:noFill/>
          </a:ln>
        </p:spPr>
      </p:pic>
      <p:sp>
        <p:nvSpPr>
          <p:cNvPr id="73" name=""/>
          <p:cNvSpPr/>
          <p:nvPr/>
        </p:nvSpPr>
        <p:spPr>
          <a:xfrm>
            <a:off x="552600" y="2143080"/>
            <a:ext cx="9055080" cy="46137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I've known rivers: I've known rivers ancient as the world and older than the flow of human blood in human veins. My soul has grown deep like the rivers. I bathed in the Euphrates when dawns were young. I built my hut near the Congo and it lulled me to sleep. I looked upon the Nile and raised the pyramids above it. I heard the singing of the Mississippi when Abe Lincoln went down to New Orleans, and I've seen its muddy bosom turn all golden in the sunset. I've known rivers: Ancient, dusky rivers. My soul has grown deep like the river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4" name="" descr=""/>
          <p:cNvPicPr/>
          <p:nvPr/>
        </p:nvPicPr>
        <p:blipFill>
          <a:blip r:embed="rId2"/>
          <a:stretch/>
        </p:blipFill>
        <p:spPr>
          <a:xfrm>
            <a:off x="496800" y="285840"/>
            <a:ext cx="9166320" cy="1577880"/>
          </a:xfrm>
          <a:prstGeom prst="rect">
            <a:avLst/>
          </a:prstGeom>
          <a:ln w="0">
            <a:noFill/>
          </a:ln>
        </p:spPr>
      </p:pic>
      <p:sp>
        <p:nvSpPr>
          <p:cNvPr id="75" name=""/>
          <p:cNvSpPr/>
          <p:nvPr/>
        </p:nvSpPr>
        <p:spPr>
          <a:xfrm>
            <a:off x="552600" y="1828800"/>
            <a:ext cx="4546440" cy="40503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Free Verse</a:t>
            </a:r>
            <a:endParaRPr b="0" lang="en-US" sz="33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ve known rivers" and "my soul has grown deep like the rivers”</a:t>
            </a:r>
            <a:endParaRPr b="0" lang="en-US" sz="23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Symbols</a:t>
            </a:r>
            <a:endParaRPr b="0" lang="en-US" sz="33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ivers</a:t>
            </a:r>
            <a:endParaRPr b="0" lang="en-US" sz="23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arkness</a:t>
            </a:r>
            <a:endParaRPr b="0" lang="en-US" sz="23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hemes</a:t>
            </a:r>
            <a:endParaRPr b="0" lang="en-US" sz="33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Perseverance</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pic>
        <p:nvPicPr>
          <p:cNvPr id="76" name="" descr=""/>
          <p:cNvPicPr/>
          <p:nvPr/>
        </p:nvPicPr>
        <p:blipFill>
          <a:blip r:embed="rId3"/>
          <a:stretch/>
        </p:blipFill>
        <p:spPr>
          <a:xfrm>
            <a:off x="5830920" y="1460520"/>
            <a:ext cx="4160880" cy="3895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496800" y="285840"/>
            <a:ext cx="9166320" cy="1577880"/>
          </a:xfrm>
          <a:prstGeom prst="rect">
            <a:avLst/>
          </a:prstGeom>
          <a:ln w="0">
            <a:noFill/>
          </a:ln>
        </p:spPr>
      </p:pic>
      <p:sp>
        <p:nvSpPr>
          <p:cNvPr id="78" name=""/>
          <p:cNvSpPr/>
          <p:nvPr/>
        </p:nvSpPr>
        <p:spPr>
          <a:xfrm>
            <a:off x="552600" y="2143080"/>
            <a:ext cx="9055080" cy="19098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he person go around to all the longest rivers in the world to show his appreciation for all they have done for the human race and how they have helped him personally. </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496800" y="285840"/>
            <a:ext cx="9166320" cy="1577880"/>
          </a:xfrm>
          <a:prstGeom prst="rect">
            <a:avLst/>
          </a:prstGeom>
          <a:ln w="0">
            <a:noFill/>
          </a:ln>
        </p:spPr>
      </p:pic>
      <p:sp>
        <p:nvSpPr>
          <p:cNvPr id="80" name=""/>
          <p:cNvSpPr/>
          <p:nvPr/>
        </p:nvSpPr>
        <p:spPr>
          <a:xfrm>
            <a:off x="552600" y="2143080"/>
            <a:ext cx="9055080" cy="38192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In the Poem “The Negro Speaks of Rivers” the person has a special place for rivers in his heart because the human race has depended on rivers throughout the ages. Also the persons he went around to the biggest rivers in the world to appreciate what they have done for us like how they help us build the pyramids. </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96800" y="285840"/>
            <a:ext cx="9166320" cy="1577880"/>
          </a:xfrm>
          <a:prstGeom prst="rect">
            <a:avLst/>
          </a:prstGeom>
          <a:ln w="0">
            <a:noFill/>
          </a:ln>
        </p:spPr>
      </p:pic>
      <p:sp>
        <p:nvSpPr>
          <p:cNvPr id="44" name=""/>
          <p:cNvSpPr/>
          <p:nvPr/>
        </p:nvSpPr>
        <p:spPr>
          <a:xfrm>
            <a:off x="552600" y="1638360"/>
            <a:ext cx="6087960" cy="6019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orn on February 1, 1902.</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orn in Joplin, Missouri.</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had divorced parents</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ised by his grandmother </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went to college for one year at Columbia University in Mexico</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is first poetry book “The Weary Blues” was published in 1926.</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then finished college at Lincoln in Pennsylvania </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1930 he wrote his first novel </a:t>
            </a:r>
            <a:r>
              <a:rPr b="0" i="1" lang="en-US" sz="2600" spc="-1" strike="noStrike">
                <a:solidFill>
                  <a:srgbClr val="ffffff"/>
                </a:solidFill>
                <a:latin typeface="Arial"/>
              </a:rPr>
              <a:t>Not Without Laughter.</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e wrote novels, short stories, plays, and poetry.</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ed from prostate cancer on May 22, 1967 </a:t>
            </a:r>
            <a:endParaRPr b="0" lang="en-US" sz="2600" spc="-1" strike="noStrike">
              <a:solidFill>
                <a:srgbClr val="000000"/>
              </a:solidFill>
              <a:latin typeface="Times New Roman"/>
            </a:endParaRPr>
          </a:p>
        </p:txBody>
      </p:sp>
      <p:pic>
        <p:nvPicPr>
          <p:cNvPr id="45" name="" descr=""/>
          <p:cNvPicPr/>
          <p:nvPr/>
        </p:nvPicPr>
        <p:blipFill>
          <a:blip r:embed="rId3"/>
          <a:stretch/>
        </p:blipFill>
        <p:spPr>
          <a:xfrm>
            <a:off x="6676920" y="317520"/>
            <a:ext cx="2743200" cy="3789360"/>
          </a:xfrm>
          <a:prstGeom prst="rect">
            <a:avLst/>
          </a:prstGeom>
          <a:ln w="0">
            <a:noFill/>
          </a:ln>
        </p:spPr>
      </p:pic>
      <p:pic>
        <p:nvPicPr>
          <p:cNvPr id="46" name="" descr=""/>
          <p:cNvPicPr/>
          <p:nvPr/>
        </p:nvPicPr>
        <p:blipFill>
          <a:blip r:embed="rId4"/>
          <a:stretch/>
        </p:blipFill>
        <p:spPr>
          <a:xfrm>
            <a:off x="7238880" y="3524400"/>
            <a:ext cx="2625840" cy="382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496800" y="285840"/>
            <a:ext cx="9166320" cy="1577880"/>
          </a:xfrm>
          <a:prstGeom prst="rect">
            <a:avLst/>
          </a:prstGeom>
          <a:ln w="0">
            <a:noFill/>
          </a:ln>
        </p:spPr>
      </p:pic>
      <p:sp>
        <p:nvSpPr>
          <p:cNvPr id="48" name=""/>
          <p:cNvSpPr/>
          <p:nvPr/>
        </p:nvSpPr>
        <p:spPr>
          <a:xfrm>
            <a:off x="552600" y="2143080"/>
            <a:ext cx="5824440" cy="4944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o fling my arms wide</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some place of the sun,</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o whirl and to dance</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ill the white day is done.</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en rest at cool evening</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eneath a tall tree</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hile night comes on gently,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ark like me—</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at is my dream!</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o fling my arms wide</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 the face of the sun,</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Dance! Whirl! Whirl!</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ill the quick day is done.</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Rest at pale evening . .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 tall, slim tree . .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ight coming tenderly </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lack like me.</a:t>
            </a:r>
            <a:endParaRPr b="0" lang="en-US" sz="1900" spc="-1" strike="noStrike">
              <a:solidFill>
                <a:srgbClr val="000000"/>
              </a:solidFill>
              <a:latin typeface="Times New Roman"/>
            </a:endParaRPr>
          </a:p>
        </p:txBody>
      </p:sp>
      <p:pic>
        <p:nvPicPr>
          <p:cNvPr id="49" name="" descr=""/>
          <p:cNvPicPr/>
          <p:nvPr/>
        </p:nvPicPr>
        <p:blipFill>
          <a:blip r:embed="rId3"/>
          <a:stretch/>
        </p:blipFill>
        <p:spPr>
          <a:xfrm>
            <a:off x="5100480" y="2084400"/>
            <a:ext cx="4996080" cy="373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496800" y="285840"/>
            <a:ext cx="9166320" cy="1577880"/>
          </a:xfrm>
          <a:prstGeom prst="rect">
            <a:avLst/>
          </a:prstGeom>
          <a:ln w="0">
            <a:noFill/>
          </a:ln>
        </p:spPr>
      </p:pic>
      <p:sp>
        <p:nvSpPr>
          <p:cNvPr id="51" name=""/>
          <p:cNvSpPr/>
          <p:nvPr/>
        </p:nvSpPr>
        <p:spPr>
          <a:xfrm>
            <a:off x="552600" y="2143080"/>
            <a:ext cx="4546440" cy="48909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person who is in the poem wants to dance in the sun all day. </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then want to lay under a tree at night and rest.</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n in the second part it basically repeats the first part.</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ow the person wants to dance in the sun and rest under the tree in the night, that is black like the person.</a:t>
            </a:r>
            <a:endParaRPr b="0" lang="en-US" sz="2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52" name="" descr=""/>
          <p:cNvPicPr/>
          <p:nvPr/>
        </p:nvPicPr>
        <p:blipFill>
          <a:blip r:embed="rId3"/>
          <a:stretch/>
        </p:blipFill>
        <p:spPr>
          <a:xfrm>
            <a:off x="5143680" y="1851120"/>
            <a:ext cx="4762440" cy="358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496800" y="285840"/>
            <a:ext cx="9166320" cy="1577880"/>
          </a:xfrm>
          <a:prstGeom prst="rect">
            <a:avLst/>
          </a:prstGeom>
          <a:ln w="0">
            <a:noFill/>
          </a:ln>
        </p:spPr>
      </p:pic>
      <p:sp>
        <p:nvSpPr>
          <p:cNvPr id="54" name=""/>
          <p:cNvSpPr/>
          <p:nvPr/>
        </p:nvSpPr>
        <p:spPr>
          <a:xfrm>
            <a:off x="552600" y="1901880"/>
            <a:ext cx="5659200" cy="53366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etaphor:</a:t>
            </a:r>
            <a:endParaRPr b="0" lang="en-US" sz="21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rst metaphor encountered in this poem is in these lines, "To whirl and to dance / Till the white day is done" </a:t>
            </a:r>
            <a:endParaRPr b="0" lang="en-US" sz="1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ymbols:</a:t>
            </a:r>
            <a:endParaRPr b="0" lang="en-US" sz="21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n- Symbolizes life in the person</a:t>
            </a:r>
            <a:endParaRPr b="0" lang="en-US" sz="1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ncing- symbolizes the persons desire to be free and do as he/she pleases.</a:t>
            </a:r>
            <a:endParaRPr b="0" lang="en-US" sz="1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ite Day- Symbolizes he white mans day, saying the the African American doesn’t have control.</a:t>
            </a:r>
            <a:endParaRPr b="0" lang="en-US" sz="1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ght- Symbolizes that it is an African American in the poem, and that the dark sky is like him/her</a:t>
            </a:r>
            <a:endParaRPr b="0" lang="en-US" sz="18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emes:</a:t>
            </a:r>
            <a:endParaRPr b="0" lang="en-US" sz="21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eams- It symbolizes the dream of an African American to dance in the sun and rest under a tree at night.</a:t>
            </a:r>
            <a:endParaRPr b="0" lang="en-US" sz="1800" spc="-1" strike="noStrike">
              <a:solidFill>
                <a:srgbClr val="000000"/>
              </a:solidFill>
              <a:latin typeface="Times New Roman"/>
            </a:endParaRPr>
          </a:p>
          <a:p>
            <a:pPr lvl="2" marL="857160" indent="-285480">
              <a:lnSpc>
                <a:spcPct val="95000"/>
              </a:lnSpc>
              <a:buClr>
                <a:srgbClr val="ffffff"/>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lace of the sun”- refers to Africa.</a:t>
            </a:r>
            <a:endParaRPr b="0" lang="en-US" sz="1800" spc="-1" strike="noStrike">
              <a:solidFill>
                <a:srgbClr val="000000"/>
              </a:solidFill>
              <a:latin typeface="Times New Roman"/>
            </a:endParaRPr>
          </a:p>
          <a:p>
            <a:pPr lvl="2" marL="857160" indent="-285480">
              <a:lnSpc>
                <a:spcPct val="95000"/>
              </a:lnSpc>
              <a:buClr>
                <a:srgbClr val="ffffff"/>
              </a:buClr>
              <a:buFont typeface="Courier New"/>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5" name="" descr=""/>
          <p:cNvPicPr/>
          <p:nvPr/>
        </p:nvPicPr>
        <p:blipFill>
          <a:blip r:embed="rId3"/>
          <a:stretch/>
        </p:blipFill>
        <p:spPr>
          <a:xfrm>
            <a:off x="6254640" y="1851120"/>
            <a:ext cx="3630600" cy="488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496800" y="285840"/>
            <a:ext cx="9166320" cy="1577880"/>
          </a:xfrm>
          <a:prstGeom prst="rect">
            <a:avLst/>
          </a:prstGeom>
          <a:ln w="0">
            <a:noFill/>
          </a:ln>
        </p:spPr>
      </p:pic>
      <p:sp>
        <p:nvSpPr>
          <p:cNvPr id="57" name=""/>
          <p:cNvSpPr/>
          <p:nvPr/>
        </p:nvSpPr>
        <p:spPr>
          <a:xfrm>
            <a:off x="552600" y="2143080"/>
            <a:ext cx="9055080" cy="286452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he person in the poem is being oppressed by the white society and wants to be at peace in a more African American equal society</a:t>
            </a:r>
            <a:endParaRPr b="0" lang="en-US" sz="33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The person is defying the whites and doing what he wants to do and he finds peace through defiance by standing up for himself</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496800" y="285840"/>
            <a:ext cx="9166320" cy="1577880"/>
          </a:xfrm>
          <a:prstGeom prst="rect">
            <a:avLst/>
          </a:prstGeom>
          <a:ln w="0">
            <a:noFill/>
          </a:ln>
        </p:spPr>
      </p:pic>
      <p:sp>
        <p:nvSpPr>
          <p:cNvPr id="59" name=""/>
          <p:cNvSpPr/>
          <p:nvPr/>
        </p:nvSpPr>
        <p:spPr>
          <a:xfrm>
            <a:off x="552600" y="1519200"/>
            <a:ext cx="6284880" cy="48909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orn in Jamaica, West Indies, 1889</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ducated by brother</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blished his first book at the age of 20</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tended the Tuskegee Institute and later Kansas State University</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est in communism and moved to Russia</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ved to France where he met Edna St. Vincent Millay and Lewis Sinclair</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ater moved back to U.S. and converted to Catholicism</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t tone for Harlem Renaissance</a:t>
            </a:r>
            <a:endParaRPr b="0" lang="en-US" sz="2600" spc="-1" strike="noStrike">
              <a:solidFill>
                <a:srgbClr val="000000"/>
              </a:solidFill>
              <a:latin typeface="Times New Roman"/>
            </a:endParaRPr>
          </a:p>
          <a:p>
            <a:pPr lvl="1" marL="457200" indent="-342720">
              <a:lnSpc>
                <a:spcPct val="9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ed in 1948</a:t>
            </a:r>
            <a:endParaRPr b="0" lang="en-US" sz="2600" spc="-1" strike="noStrike">
              <a:solidFill>
                <a:srgbClr val="000000"/>
              </a:solidFill>
              <a:latin typeface="Times New Roman"/>
            </a:endParaRPr>
          </a:p>
        </p:txBody>
      </p:sp>
      <p:pic>
        <p:nvPicPr>
          <p:cNvPr id="60" name="" descr=""/>
          <p:cNvPicPr/>
          <p:nvPr/>
        </p:nvPicPr>
        <p:blipFill>
          <a:blip r:embed="rId3"/>
          <a:stretch/>
        </p:blipFill>
        <p:spPr>
          <a:xfrm>
            <a:off x="6878520" y="326880"/>
            <a:ext cx="2775240" cy="3113280"/>
          </a:xfrm>
          <a:prstGeom prst="rect">
            <a:avLst/>
          </a:prstGeom>
          <a:ln w="0">
            <a:noFill/>
          </a:ln>
        </p:spPr>
      </p:pic>
      <p:pic>
        <p:nvPicPr>
          <p:cNvPr id="61" name="" descr=""/>
          <p:cNvPicPr/>
          <p:nvPr/>
        </p:nvPicPr>
        <p:blipFill>
          <a:blip r:embed="rId4"/>
          <a:stretch/>
        </p:blipFill>
        <p:spPr>
          <a:xfrm>
            <a:off x="6878520" y="3502080"/>
            <a:ext cx="2784600" cy="411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496800" y="285840"/>
            <a:ext cx="9166320" cy="1577880"/>
          </a:xfrm>
          <a:prstGeom prst="rect">
            <a:avLst/>
          </a:prstGeom>
          <a:ln w="0">
            <a:noFill/>
          </a:ln>
        </p:spPr>
      </p:pic>
      <p:sp>
        <p:nvSpPr>
          <p:cNvPr id="63" name=""/>
          <p:cNvSpPr/>
          <p:nvPr/>
        </p:nvSpPr>
        <p:spPr>
          <a:xfrm>
            <a:off x="552600" y="2143080"/>
            <a:ext cx="9055080" cy="4296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Bananas ripe and green, and ginger root, Cocoa in pods and alligator pears,</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And tangerines and mangoes and grape fruit,</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Fit for the highest prize at parish fairs,</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Set on the window, bringing memories</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Of fruit-trees laden by low-singing rills,</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And dewy dawns, and mystical blue skies</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In benediction over nun-like hills</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496800" y="285840"/>
            <a:ext cx="9166320" cy="1577880"/>
          </a:xfrm>
          <a:prstGeom prst="rect">
            <a:avLst/>
          </a:prstGeom>
          <a:ln w="0">
            <a:noFill/>
          </a:ln>
        </p:spPr>
      </p:pic>
      <p:sp>
        <p:nvSpPr>
          <p:cNvPr id="65" name=""/>
          <p:cNvSpPr/>
          <p:nvPr/>
        </p:nvSpPr>
        <p:spPr>
          <a:xfrm>
            <a:off x="552600" y="2143080"/>
            <a:ext cx="9055080" cy="2864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My eyes grew dim, and I could no more gaze</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A wave of longing through my body swept,</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And, hungry for the old, familiar ways</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Arial"/>
              </a:rPr>
              <a:t>I turned aside and bowed my head and wept. </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